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381778"/>
        <c:axId val="89358962"/>
      </c:barChart>
      <c:catAx>
        <c:axId val="923817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58962"/>
        <c:crosses val="autoZero"/>
        <c:auto val="1"/>
        <c:lblAlgn val="ctr"/>
        <c:lblOffset val="100"/>
        <c:noMultiLvlLbl val="0"/>
      </c:catAx>
      <c:valAx>
        <c:axId val="893589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817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01AC-917A-4EB2-A9E4-A04A84CB5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7424-FBE7-45A4-972B-1CE1DFFE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4BF5-3647-4BD5-BF37-C97D35B52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D448-A616-4530-A6FB-DF3B3DE49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6D9A-C132-4071-8C79-C74EA567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DD53-BCB9-48CF-8FA0-CB01C0EA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B160-5D5F-4236-9E58-3B90A633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AC91-DD6D-49C4-8E9A-E5EF91F2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5DB9-1339-43B7-96D1-F83C10B4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4811-498F-4F84-B84E-B9132F88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73E7-CBE5-487E-8B01-E36DCD32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F2CE-C6AB-4A17-9668-EA3B066D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555C0-6BDB-401C-8E10-4A030548A8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