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94941"/>
        <c:axId val="4177865"/>
      </c:barChart>
      <c:catAx>
        <c:axId val="52594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7865"/>
        <c:crosses val="autoZero"/>
        <c:auto val="1"/>
        <c:lblAlgn val="ctr"/>
        <c:lblOffset val="100"/>
        <c:noMultiLvlLbl val="0"/>
      </c:catAx>
      <c:valAx>
        <c:axId val="4177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94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A3E4-E6C5-4C96-97D3-6B3007D42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285-BB9D-4959-B31B-88178AF5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37B1-CDEF-4AE8-AD3A-796D09C5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0DAF-5DD8-43C2-B880-BBDE0B6B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D436-2202-4098-B93F-026E0FE9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9A5-4A36-488D-B0FD-9387658C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B28-683B-4FFD-B4D6-603896A6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D8B9-DEEF-43C3-9EFF-7828D9C7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CD6-277A-45B6-A428-0505D071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932-68CF-4ACB-B901-E4D25B77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0A3A-4522-431B-9E24-2B3C1C63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2ADB-1EEA-4F69-8244-89BA6E08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BBE4D-6B1B-47FA-83F5-B18FEDDA16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