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022737"/>
        <c:axId val="1876633"/>
      </c:barChart>
      <c:catAx>
        <c:axId val="720227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6633"/>
        <c:crosses val="autoZero"/>
        <c:auto val="1"/>
        <c:lblAlgn val="ctr"/>
        <c:lblOffset val="100"/>
        <c:noMultiLvlLbl val="0"/>
      </c:catAx>
      <c:valAx>
        <c:axId val="1876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227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6719-F623-46CC-8CEC-284F36F2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FDF-51BE-4A1A-9F2B-CC18FEE5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0880-E7F5-4534-A5A5-3F96BB9D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D5B0-74D2-4908-8A01-9C457B43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FD42-C45B-407E-BBF8-36442AA6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A3DA-3900-4B5C-874F-C72DD578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761E-0955-4AD5-9038-D7FEAF68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1069-1F92-4DF5-980A-14C4A93E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AE2A-2CF1-4851-B3B2-9A395585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C7EE-C419-4A00-A63C-7DB5E3A0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76A4-0421-41A1-B34A-372F5769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251F-0820-4F89-83E0-05BB54BB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FDA16-DE53-4ED0-BFF7-15712F0954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