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367465"/>
        <c:axId val="81147127"/>
      </c:barChart>
      <c:catAx>
        <c:axId val="743674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147127"/>
        <c:crosses val="autoZero"/>
        <c:auto val="1"/>
        <c:lblAlgn val="ctr"/>
        <c:lblOffset val="100"/>
        <c:noMultiLvlLbl val="0"/>
      </c:catAx>
      <c:valAx>
        <c:axId val="811471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674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37FF-FBCF-4072-AD2B-12AE92782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7C02-6311-452E-8771-70BBE539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5D16-CF2E-4305-9EA3-5B7080F67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7A92-B5BC-4D8B-84E1-D95F03645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F161-FCB1-49E2-8B77-35518861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BAF2-5DE2-4637-85D9-682A363A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E243-727D-4FFB-8A0E-7A937FE5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6223-ED96-473B-A28D-4B59DB20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2A2E-681D-4FF0-BC97-41E0A56A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3709-5CFD-4023-A911-D90AB3EE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01A2-5D9C-4E34-8E65-C0F65817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0241-51C9-4F70-8104-9434BF0D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B40E4-8965-4BD9-8C08-C3E96887E5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