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58939"/>
        <c:axId val="82285814"/>
      </c:barChart>
      <c:catAx>
        <c:axId val="32758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85814"/>
        <c:crosses val="autoZero"/>
        <c:auto val="1"/>
        <c:lblAlgn val="ctr"/>
        <c:lblOffset val="100"/>
        <c:noMultiLvlLbl val="0"/>
      </c:catAx>
      <c:valAx>
        <c:axId val="82285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58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F43-BC59-4EC1-8FE9-7CDAA3B8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BC6-94A3-476D-9472-065C6F27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8FE-96A6-4C0D-96AC-9E94895D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F11-823F-4211-A897-D1C5D1AE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A7A-6AFA-4C05-9126-BA399319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3BC-9879-4CA0-807A-0FCCD4FA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956-8081-489B-9098-7366A099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D8A-97D0-4641-9DF0-6DBCB318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C2E-5D7B-4191-AF6A-F8E8EEBB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1C1-8B62-41B3-AFC3-7AB80F2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BEF-3FBB-441A-9E3A-0C328C99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982-DE8C-44F5-BFA0-F42E17CF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7A952-C968-4675-BF86-A56BD42AB4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