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484749"/>
        <c:axId val="36822833"/>
      </c:barChart>
      <c:catAx>
        <c:axId val="534847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22833"/>
        <c:crosses val="autoZero"/>
        <c:auto val="1"/>
        <c:lblAlgn val="ctr"/>
        <c:lblOffset val="100"/>
        <c:noMultiLvlLbl val="0"/>
      </c:catAx>
      <c:valAx>
        <c:axId val="36822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847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5C41-5E12-47F2-B4BC-0366AD36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0C4-A862-4A92-8D2D-AEF7CA15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FF0-FFA0-45E8-A705-B4C186A0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205-4CCC-4699-9A35-B91D62FF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94A-0F95-47F6-9550-B2B607A9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878-CA0F-48A4-9355-FE718008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FAB6-C870-4E8D-9A8B-B07E0015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088C-C84A-4141-B341-DE9D7BA7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0D20-3F0C-4276-801E-50C78CFF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0175-483F-4917-9023-2D693296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E24-9DED-45B6-9D2C-31F43A9B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759-82FB-4EAC-ACBB-138FA0B9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8433E-6AE4-4441-9AE3-7CF7C84A15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