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31447"/>
        <c:axId val="76862647"/>
      </c:barChart>
      <c:catAx>
        <c:axId val="22731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62647"/>
        <c:crosses val="autoZero"/>
        <c:auto val="1"/>
        <c:lblAlgn val="ctr"/>
        <c:lblOffset val="100"/>
        <c:noMultiLvlLbl val="0"/>
      </c:catAx>
      <c:valAx>
        <c:axId val="76862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31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E6B-972E-46AD-ADFF-FC4B2550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291-27F6-45A8-9720-A154C1D8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554-7FC5-4058-AD02-8EBE3AF0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68C3-530A-44FE-9954-1A019562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6FD-0B35-44F9-8F09-17C9E0BE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DEB-FEAF-4313-9187-0198E455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CF7-F949-49EC-BAC5-922F0D69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0F2-0CF1-4C3C-8451-600BB49C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26D-0E22-4F25-B0F6-1B3BAADE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89A-204B-4E87-8D04-4E6B0770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077-6948-4C16-99BF-9957C079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10B-0B20-415B-A6E3-D9634591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682CD-8279-4D33-A912-351FEE3C0D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