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35680"/>
        <c:axId val="41775862"/>
      </c:barChart>
      <c:catAx>
        <c:axId val="94635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75862"/>
        <c:crosses val="autoZero"/>
        <c:auto val="1"/>
        <c:lblAlgn val="ctr"/>
        <c:lblOffset val="100"/>
        <c:noMultiLvlLbl val="0"/>
      </c:catAx>
      <c:valAx>
        <c:axId val="41775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35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C9E-F473-4D4C-AFCB-D700C6DB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4F0-616D-4910-B5A8-3F3BFD14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82C-140D-426C-A629-8B1EEBBC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5E6-98FF-477A-816A-DC1E1813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044-DD27-43BA-968A-CAAF4FFC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88B-9A20-4247-BD7B-E5CDE79B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FC8-69EC-41BE-B384-3DC691F8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F83-6C4F-440D-A5B0-381DB3C6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5E8-2454-4356-98DA-B98E173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8F5-CA91-4B69-866C-61CB2BF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CC7-115F-4F67-901E-9F5BF785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00B-28D0-4D69-89A7-2F8C768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B6AEC-87EB-4E2A-88E3-5BC753E291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