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94542"/>
        <c:axId val="35973766"/>
      </c:barChart>
      <c:catAx>
        <c:axId val="63945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973766"/>
        <c:crosses val="autoZero"/>
        <c:auto val="1"/>
        <c:lblAlgn val="ctr"/>
        <c:lblOffset val="100"/>
        <c:noMultiLvlLbl val="0"/>
      </c:catAx>
      <c:valAx>
        <c:axId val="359737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945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C80D-5FFD-456A-B2F0-2F8E0EB7E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D941-1C63-4613-BD1F-D7F2E979C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ECC6-11D5-4D05-B310-779BD7375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1968-89D7-4DE7-B3D8-52762CF98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6E82-7CF1-4BFD-B930-FF9C60B5A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84D5-407C-4D25-B69C-41103E631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D60C-3032-4CCA-8081-7F0EBC107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7B2A-C588-40F6-BAF5-3C827A47A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D0AE-BF42-4E70-852A-517CB9587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BAAA-A76A-4533-9F7E-D064A8FB4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C8A2-1901-4CF0-90A7-F5C9A667E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E9BF-83CC-40E4-AE9A-F952276F3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B69B8F-5A33-49F6-A897-430534A2028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