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22642"/>
        <c:axId val="7992559"/>
      </c:barChart>
      <c:catAx>
        <c:axId val="9982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2559"/>
        <c:crosses val="autoZero"/>
        <c:auto val="1"/>
        <c:lblAlgn val="ctr"/>
        <c:lblOffset val="100"/>
        <c:noMultiLvlLbl val="0"/>
      </c:catAx>
      <c:valAx>
        <c:axId val="7992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2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224-F691-48BC-A734-F87DDA6E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981-552A-4E71-B87A-830191E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245-EFE6-4488-9C61-A119AA95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D0A-1B10-4A5A-96F8-E1F61543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110-A6EA-4014-AAAF-D745AD36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026-5C98-4270-8946-9A0076D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58F-D883-4921-A41F-CB1308F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FAD-2EC9-4CBD-ACB3-18234463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AF4-9060-4D77-B2F4-3EE40E1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4DD-0E18-460D-AFF7-216514F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4D5-7A67-49F1-ADD2-6BEBA01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B76-2234-49CA-9156-3034DEC9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3850-D846-479A-96E2-CCBD806353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