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88597"/>
        <c:axId val="43741462"/>
      </c:barChart>
      <c:catAx>
        <c:axId val="84188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41462"/>
        <c:crosses val="autoZero"/>
        <c:auto val="1"/>
        <c:lblAlgn val="ctr"/>
        <c:lblOffset val="100"/>
        <c:noMultiLvlLbl val="0"/>
      </c:catAx>
      <c:valAx>
        <c:axId val="43741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88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6AA-E76F-476D-82B9-206FA9AF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72F-1BE7-466E-96A6-EDA02D20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540-635A-4DDA-B36A-C1B984D4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BA2-BD88-4257-8586-CB5AD7CB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88A-CD7E-4B6E-B168-EA39DD0B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7CD-D95D-4BF7-9F1C-7369B166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642-F4EA-4FEA-A93A-B4A69802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06E-4E0F-4EEE-8962-45E14CDB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086-8E1B-4496-9B8C-8F436DD8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5FE-9CBC-4D6F-A1F6-387AF3A0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72A-55FC-4A9D-9554-D9E21EE1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259-0F73-4FA4-B3D0-967F1E1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BDDF4-DE7B-465F-AEB9-4434FDBCF7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