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59596"/>
        <c:axId val="38316722"/>
      </c:barChart>
      <c:catAx>
        <c:axId val="56959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6722"/>
        <c:crosses val="autoZero"/>
        <c:auto val="1"/>
        <c:lblAlgn val="ctr"/>
        <c:lblOffset val="100"/>
        <c:noMultiLvlLbl val="0"/>
      </c:catAx>
      <c:valAx>
        <c:axId val="38316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59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866-E436-4F65-9BEF-66113797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1A0-3443-44EB-8018-F202F693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B11-D300-47CB-AD5F-94BA62BE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7BB-4B12-4039-8DCA-ED805D9F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0F2-471E-4334-8D20-72D4DDF1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2D9-A4A2-41D4-B1FB-3488BABD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BF0-9082-4486-BF7A-154DB78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A3C-C3B8-42E2-AD0D-4729389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D13-B728-4371-A4C5-9A7E198D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962-DC82-4EE3-BC63-7E4F9F0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080-7AB7-4F70-8670-3914205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02A-63CD-4A05-B7DE-DA726C3F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5DC8F-35E9-4AF1-9EB8-24C13C2D28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