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81095"/>
        <c:axId val="45921042"/>
      </c:barChart>
      <c:catAx>
        <c:axId val="26981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21042"/>
        <c:crosses val="autoZero"/>
        <c:auto val="1"/>
        <c:lblAlgn val="ctr"/>
        <c:lblOffset val="100"/>
        <c:noMultiLvlLbl val="0"/>
      </c:catAx>
      <c:valAx>
        <c:axId val="459210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81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B2C-8D68-4449-9AA4-BFB69AE1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A8D-7CEB-440C-8F54-451C981C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630-23B1-4BF8-9F51-04544B4B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DBC-BA49-40DE-8136-7C8AB97D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B61-C2B0-4432-9730-275D6E62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602-17DD-4328-AC49-77C0C73D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B04-C173-4A8D-89B0-0AB493B2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0CF-4745-452A-AA4E-4A6EC028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3C9-B0C9-4DFD-9D87-64430FC9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08C-2356-42EB-ABA8-78B70A1D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21F-3A3A-41CA-AD1F-020E7FD6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F9B-90DD-4ACC-84E8-71886E8F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AD314-8DE6-4703-A41B-11F00A55FD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