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62137"/>
        <c:axId val="12600964"/>
      </c:barChart>
      <c:catAx>
        <c:axId val="16062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0964"/>
        <c:crosses val="autoZero"/>
        <c:auto val="1"/>
        <c:lblAlgn val="ctr"/>
        <c:lblOffset val="100"/>
        <c:noMultiLvlLbl val="0"/>
      </c:catAx>
      <c:valAx>
        <c:axId val="12600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62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708-D2CC-40C5-A02E-DF67EF1D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25F-59BE-40F0-9B1A-878C9DB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B07-F520-41CA-91C2-E806B843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EED-6A4F-43B9-9C81-2BF2CD72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F58-BE99-4428-AB9A-13E20D9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3BA-516F-43EE-A637-B20F69C1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6AF-EEBE-49F4-B4AA-DB8E0DA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CF4-5730-45F4-8BC1-0411A2D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910-69B3-4AF0-B365-BC24811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3ED-10BE-4731-AED3-48EFBCF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B54-78F5-4C32-86AA-C3BC6F7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B2D-8EDB-4220-986C-296E046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9C252-527A-4DD9-8397-330873D2CB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