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12585"/>
        <c:axId val="28980885"/>
      </c:barChart>
      <c:catAx>
        <c:axId val="44412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80885"/>
        <c:crosses val="autoZero"/>
        <c:auto val="1"/>
        <c:lblAlgn val="ctr"/>
        <c:lblOffset val="100"/>
        <c:noMultiLvlLbl val="0"/>
      </c:catAx>
      <c:valAx>
        <c:axId val="28980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12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054-5632-4583-A08E-BFED1AFC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F1B-B507-4BCA-8099-E64FC745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DC2-9CA9-4A13-B7B6-93E17D25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765-20ED-4F55-875B-63C1020C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624-124F-4438-86E1-9AA12458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5B8-BFEA-49F5-B40B-D14607AB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79A-4A2F-4A30-9BFA-8AED865B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C94-73C6-474D-BE2E-AFFA9968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C5D-A47E-4158-B3F5-DDA6A847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B75-795E-415C-B0F3-06F0B76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E91-6403-49C7-8CF6-E88401A6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D95-973B-4F81-BFFB-32D6B189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1D3BD-2C29-4D2F-B99B-75CBD70E48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