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36622"/>
        <c:axId val="37047509"/>
      </c:barChart>
      <c:catAx>
        <c:axId val="85736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47509"/>
        <c:crosses val="autoZero"/>
        <c:auto val="1"/>
        <c:lblAlgn val="ctr"/>
        <c:lblOffset val="100"/>
        <c:noMultiLvlLbl val="0"/>
      </c:catAx>
      <c:valAx>
        <c:axId val="37047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36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91A-6D9B-4E04-AD07-15455D76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94A-AB90-44E9-9975-7ACFB3C5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75D-B268-41A5-A137-1B1CC757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D94-1362-40EB-A38C-7E92E6A9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466-B918-4F18-82DE-35E73465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883-297B-495A-8589-80326674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5EF-AA14-405F-B5CF-72EE4087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F62-F8D2-4084-80D1-4A9A8E1B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6B5-6A1C-44E1-A2EF-F033A186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DEE-9EF1-4A38-8059-E0F4330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54E-8FDC-4B27-AB93-DB407F08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86B-DB3C-4671-8F1D-53781FD3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0E405-0530-4A12-ADF0-9AC3EC5CE7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