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02460"/>
        <c:axId val="26662796"/>
      </c:barChart>
      <c:catAx>
        <c:axId val="27602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2796"/>
        <c:crosses val="autoZero"/>
        <c:auto val="1"/>
        <c:lblAlgn val="ctr"/>
        <c:lblOffset val="100"/>
        <c:noMultiLvlLbl val="0"/>
      </c:catAx>
      <c:valAx>
        <c:axId val="266627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02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06E-0D11-4884-841B-6D09D8A2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90F-C952-4D6A-97A5-7428C8A0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F63-329B-40D0-9DA7-9027E347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B7E-94BA-4BE2-B7A3-041BA325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75C-AEF1-4846-B8CA-7CF0AB07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924-95EE-48DE-99F8-E1F974D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8A9-1DC1-4288-B665-D2C63F0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791-EFE9-4350-AF40-7567F8B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A72-899B-44E0-BD50-3D53953F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71A-285E-4E11-AA01-E3D4785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A83-8904-433B-8930-E72DCAFD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F21-83C9-4280-88FE-AF872BB7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7F92D-E1FB-4963-9B69-EBCAB8A90C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