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42065"/>
        <c:axId val="83365421"/>
      </c:barChart>
      <c:catAx>
        <c:axId val="97442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65421"/>
        <c:crosses val="autoZero"/>
        <c:auto val="1"/>
        <c:lblAlgn val="ctr"/>
        <c:lblOffset val="100"/>
        <c:noMultiLvlLbl val="0"/>
      </c:catAx>
      <c:valAx>
        <c:axId val="83365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42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257-64B3-4A2D-B3BB-24A365F2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AD2-92C6-47B8-B108-392E23B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EE3-19C5-420A-885F-DB422164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2E8-00F3-42B3-9B3D-6F557276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51A-B5B0-4DD4-A9D7-99D7618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EED-9796-4BE8-A356-85FF4D78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969-DAE4-4610-8ED0-05E6EDB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222-1106-42F7-B25B-44EAFB9A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7C6-023D-4509-ADE7-844A0D5B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4E1-7453-4D6C-8F39-37549F9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93D-FDA1-4340-9448-733866F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AB0-4387-49B1-8A67-0EE78BB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DDD20-BBE0-4AB7-A41F-379260775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