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4048200" y="914400"/>
            <a:ext cx="1047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</a:t>
            </a: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tl</a:t>
            </a:r>
            <a:r>
              <a:rPr b="1" lang="en-US" sz="3600" spc="-1" strike="noStrike" u="sng">
                <a:solidFill>
                  <a:srgbClr val="081d58"/>
                </a:solidFill>
                <a:uFillTx/>
                <a:latin typeface="Arial"/>
                <a:ea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 flipV="1">
            <a:off x="2362320" y="1981080"/>
            <a:ext cx="2590560" cy="1447920"/>
          </a:xfrm>
          <a:prstGeom prst="line">
            <a:avLst/>
          </a:prstGeom>
          <a:ln w="507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600200" y="3657600"/>
            <a:ext cx="12193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c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43200" y="2514600"/>
            <a:ext cx="685800" cy="380880"/>
          </a:xfrm>
          <a:prstGeom prst="roundRect">
            <a:avLst/>
          </a:prstGeom>
          <a:solidFill>
            <a:srgbClr val="3c59b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4114800"/>
            <a:ext cx="1676520" cy="9907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04880" y="5160960"/>
            <a:ext cx="71748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éf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81280" y="2133720"/>
            <a:ext cx="51814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361800"/>
                <a:tab algn="ctr" pos="628560"/>
                <a:tab algn="l" pos="971640"/>
                <a:tab algn="r" pos="1238400"/>
                <a:tab algn="ctr" pos="1428840"/>
                <a:tab algn="dec" pos="1714680"/>
                <a:tab algn="r" pos="207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g t</a:t>
            </a:r>
            <a:r>
              <a:rPr b="1" lang="en-US" sz="1800" spc="-1" strike="noStrike">
                <a:solidFill>
                  <a:srgbClr val="000000"/>
                </a:solidFill>
                <a:latin typeface="Bookman"/>
                <a:ea typeface="Bookman"/>
              </a:rPr>
              <a:t>ext 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361800"/>
                <a:tab algn="ctr" pos="628560"/>
                <a:tab algn="l" pos="971640"/>
                <a:tab algn="r" pos="1238400"/>
                <a:tab algn="ctr" pos="1428840"/>
                <a:tab algn="dec" pos="1714680"/>
                <a:tab algn="r" pos="207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361800"/>
                <a:tab algn="ctr" pos="628560"/>
                <a:tab algn="l" pos="971640"/>
                <a:tab algn="r" pos="1238400"/>
                <a:tab algn="ctr" pos="1428840"/>
                <a:tab algn="dec" pos="1714680"/>
                <a:tab algn="r" pos="207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s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2860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048200" y="914400"/>
            <a:ext cx="1047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828800"/>
            <a:ext cx="8153280" cy="44197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905120"/>
            <a:ext cx="2209680" cy="213372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133720"/>
            <a:ext cx="1295280" cy="16765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2209680"/>
            <a:ext cx="990720" cy="1828800"/>
          </a:xfrm>
          <a:prstGeom prst="round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286000"/>
            <a:ext cx="533520" cy="1752480"/>
          </a:xfrm>
          <a:prstGeom prst="ellipse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876920"/>
            <a:ext cx="1295280" cy="1219320"/>
          </a:xfrm>
          <a:prstGeom prst="round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4876920"/>
            <a:ext cx="1066680" cy="121932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4800600"/>
            <a:ext cx="762120" cy="1219320"/>
          </a:xfrm>
          <a:prstGeom prst="ellipse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4800600"/>
            <a:ext cx="914400" cy="99072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