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27568"/>
        <c:axId val="28768114"/>
      </c:barChart>
      <c:catAx>
        <c:axId val="89027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68114"/>
        <c:crosses val="autoZero"/>
        <c:auto val="1"/>
        <c:lblAlgn val="ctr"/>
        <c:lblOffset val="100"/>
        <c:noMultiLvlLbl val="0"/>
      </c:catAx>
      <c:valAx>
        <c:axId val="2876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27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3F24-97B3-4499-904E-1FE017C9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1FD-EC91-43FF-BB32-F304D846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151-2FBE-4822-8455-66A843B4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280-9BBB-4AB0-8DB0-2A584C88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9D47-6806-4E1E-A05E-9420FB74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92C-8D63-40FD-A1DE-ADA12917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BAA-267A-44C1-9931-A0747C1D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381-3374-4262-A860-169D9A1B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DA5-72D1-413C-8C33-77827B3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E383-3C43-412F-A9D1-7DD29BFD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FCDC-0483-462D-80D0-F680071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BF2-4BEB-43F6-AEC8-40DF64B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D65C4-F4AF-477D-88DA-E73140B52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