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43689"/>
        <c:axId val="5054464"/>
      </c:barChart>
      <c:catAx>
        <c:axId val="35743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4464"/>
        <c:crosses val="autoZero"/>
        <c:auto val="1"/>
        <c:lblAlgn val="ctr"/>
        <c:lblOffset val="100"/>
        <c:noMultiLvlLbl val="0"/>
      </c:catAx>
      <c:valAx>
        <c:axId val="5054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43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59A-4603-4797-8BFD-4A52DCE8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049-C497-4596-A04E-34AD5CD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9E6-4E30-4724-A467-8E2EB948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2C9-70BC-4613-B540-3C08A1C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1BC-1A97-4411-A38F-337E322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614-D08F-43B1-81F4-303D86F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F99-DAFA-4B9A-B95C-52D7667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D75-8CF3-43F7-BCD2-A9F5B1B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754-6820-445F-BF54-77C2B912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9C5-0BC9-4735-8FD1-8E6D947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850-E796-4CC5-B1F3-86D4525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12A-1E9D-476B-AE09-10909DB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86284-F58C-4FD6-889A-AF5EB6A11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