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86476"/>
        <c:axId val="89524191"/>
      </c:barChart>
      <c:catAx>
        <c:axId val="57086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4191"/>
        <c:crosses val="autoZero"/>
        <c:auto val="1"/>
        <c:lblAlgn val="ctr"/>
        <c:lblOffset val="100"/>
        <c:noMultiLvlLbl val="0"/>
      </c:catAx>
      <c:valAx>
        <c:axId val="89524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6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362-B966-4E25-ACA4-3A91BD62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346-ACA8-498A-90AB-525E1D4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CAE-4626-40A7-ADA1-3A7EF66B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3D7-AAA2-4EA7-BA16-FC924F66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CDA-250C-4374-A20F-21CB5AE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DFC-F91E-4A3A-BC6B-0E35C99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B68-4B20-49AD-9AA5-28C9A57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542-3B73-49ED-819C-3D13A28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636-2344-4763-A9DD-7538E5A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A4E-F100-4485-9EFE-CD94D98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315-E2BB-4102-AA0E-144ED1D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800-D631-4B0A-9529-A7ECD04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ED80-8036-41DD-B035-79C8083AC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